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836-3525-4BA2-8E3D-E3FB84F6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755-FEF1-474E-96DB-0BDB92EF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105-EE47-4387-B69A-AD867EB0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FA6-AD70-4B1F-8D4F-4D55CC9C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8DB-29C1-4459-BE2A-4422A6BF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83D-A547-437C-8730-9DC6E566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01A-9072-4892-8748-F18B0E63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DE0-9644-4DC9-A0A0-1CCACE41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088-C61B-4CEA-81C0-CE8F4682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EB7-758E-4F4F-B0F4-FFDCD9E5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96E1-D606-4C37-A77C-7E966680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722-3AC4-4B65-B1A4-E7E9A21F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C2E9-7B2A-4EFE-979D-105692DF8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562280" cy="5533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92720" y="907920"/>
            <a:ext cx="47512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600800" cy="618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485928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1:30:32Z</dcterms:created>
  <dc:creator>01690112</dc:creator>
  <dc:description/>
  <dc:language>en-US</dc:language>
  <cp:lastModifiedBy>01690112</cp:lastModifiedBy>
  <dcterms:modified xsi:type="dcterms:W3CDTF">2009-07-14T11:33:08Z</dcterms:modified>
  <cp:revision>1</cp:revision>
  <dc:subject/>
  <dc:title>Slide 1</dc:title>
</cp:coreProperties>
</file>